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andre%20rieu%20-%20Offenbach%20%20DIV.wav" ContentType="audio/x-wav"/>
  <Override PartName="/ppt/media/image3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3.jpeg" ContentType="image/jpeg"/>
  <Override PartName="/ppt/media/image12.jpeg" ContentType="image/jpeg"/>
  <Override PartName="/ppt/media/image46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735-29BA-4816-B591-F6304E7E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632-9D12-4F90-A8C6-9CF7FF70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7B8-882E-4799-BE81-9D0351D2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ADB-0114-4AC0-B1DF-38581777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717-6A6B-4E4B-A528-8EED18F2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49B-20F8-4644-AE46-1CCCBE92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EA9-8DAA-4286-BCC5-AAA24DA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E78-4798-4075-B278-84710043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C81-7F95-4D5B-9D75-79B8A91C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799-6BA0-460D-8283-8F29D5F1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FB3-7004-444D-9BD8-3C7A346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AD3-3CBC-40EC-A7AE-2631D25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03E50-A9FB-46CA-8437-9DA208F0C94D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re%20rieu%20-%20Offenbach%20%20DIV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2924280"/>
            <a:ext cx="961236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Mise en Place de la Navette DISCO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rarement présentée au grand Publ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écouver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e 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  <p:sndAc>
      <p:stSnd>
        <p:snd r:embed="rId1" name="andre%20rieu%20-%20Offenbach%20%20DIV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33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ssemblage des Propulseurs Lat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404640"/>
            <a:ext cx="20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ssemblage des Moteurs sur les propul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18900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ssemblage des Moteurs sur la Nav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2498" t="0" r="5000" b="6945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38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Navette Prête à la mise à la vert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8000" y="2602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Navette va être Assemblée au réservoir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 reservoir externe principal arrive par B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83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alle de Préparation du F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Mise en place, dans la Soute, du fret destiné à la Station Spatiale Intern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2781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uveau Module destiné à la Station Spatiale Intern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77940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Soute est transférée au pas de 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907920"/>
            <a:ext cx="22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Soute est hissée en position prête à être assemblée à la navette, lorsqu'elle sera au Pas de 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47628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Navette DISCOVERY quitte le Bâtiment d'Assemb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50920" y="3716280"/>
            <a:ext cx="865440" cy="1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3500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as  de 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76280"/>
            <a:ext cx="20509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déplacement sur une distance de 5.5 Km envi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qui 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de 6 à 8 He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476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La navette sur son transpor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55640" y="8366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âtiment d'Assembl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à la Vert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48360" y="3284640"/>
            <a:ext cx="37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éservoir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35280" y="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Cabine de pilotage du transpor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476280"/>
            <a:ext cx="20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rrivée 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as de 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765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ête au l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890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Extraction du réservoir de son conteneur d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189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ntrée du Réservoir dans le Bâtiment d'Assemb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réparation pour Mise à la Vert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DEBEVE Michel</cp:lastModifiedBy>
  <dcterms:modified xsi:type="dcterms:W3CDTF">2008-05-19T12:15:31Z</dcterms:modified>
  <cp:revision>30</cp:revision>
  <dc:subject/>
  <dc:title>Diapositive 1</dc:title>
</cp:coreProperties>
</file>