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andre%20rieu%20-%20Offenbach%20%20DIV.wav" ContentType="audio/x-wav"/>
  <Override PartName="/ppt/media/image3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2.jpeg" ContentType="image/jpeg"/>
  <Override PartName="/ppt/media/image46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77C-842F-4C82-977C-45BC8635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887-FA1E-4C6E-BD2B-0451499F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C62-B5DA-4CA7-9C40-FBF8A4D2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451-30C2-4FD4-B8D1-165AB7D9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347-82C2-462F-B3B2-7B9996FA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697-9FF8-491E-9A38-414DA72D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8E4-0CBE-4EB2-97E7-AEE897B8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84F-F9CC-473C-98B8-4A73431C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FB7-AC3C-48A0-98D5-36083265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476-A63F-4D9B-8D19-09B65A7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D68-7A3D-42B0-A3BE-3B370745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285-7BEC-4552-AF39-437D47F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77EA1-AF9B-4D15-BF53-4D85CCA261A9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re%20rieu%20-%20Offenbach%20%20DIV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2924280"/>
            <a:ext cx="961236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Mise en Place de la Navette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rarement présentée au grand Publ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écouver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e 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  <p:sndAc>
      <p:stSnd>
        <p:snd r:embed="rId1" name="andre%20rieu%20-%20Offenbach%20%20DIV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33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ssemblage des Propulseurs Lat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0464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ssemblage des Moteurs sur les propul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189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ssemblage des Moteurs sur la Nav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498" t="0" r="5000" b="6945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38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Navette Prête à la mise à la vert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8000" y="260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Navette va être Assemblée au réservoi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 reservoir externe principal arrive par B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83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alle de Préparation du F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Mise en place, dans la Soute, du fret destiné à la Station Spatiale Intern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2781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uveau Module destiné à la Station Spatiale Intern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Soute est transférée au pas de 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907920"/>
            <a:ext cx="22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Soute est hissée en position prête à être assemblée à la navette, lorsqu'elle sera au Pas de 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476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Navette DISCOVERY quitte le Bâtiment d'Assemb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50920" y="3716280"/>
            <a:ext cx="86544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350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as  de 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76280"/>
            <a:ext cx="2050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éplacement sur une distance de 5.5 Km env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qui 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e 6 à 8 He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476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navette sur son transpor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8366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âtiment d'Assembl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à la Vert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3284640"/>
            <a:ext cx="37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éservoi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35280" y="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Cabine de pilotage du transpor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476280"/>
            <a:ext cx="20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rrivée 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as de 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76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ête au l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9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Extraction du réservoir de son conteneur d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189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trée du Réservoir dans le Bâtiment d'Assemb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éparation pour Mise à la Vert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DEBEVE Michel</cp:lastModifiedBy>
  <dcterms:modified xsi:type="dcterms:W3CDTF">2008-05-19T12:15:31Z</dcterms:modified>
  <cp:revision>30</cp:revision>
  <dc:subject/>
  <dc:title>Diapositive 1</dc:title>
</cp:coreProperties>
</file>